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CE7-144F-4DD2-A1DF-2D00D1BE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6A5-21C8-4916-812F-10341F0C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8FE-A770-4F17-BA84-5AF90C26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488-5011-484F-97F3-E4ECDCA9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60A0-1210-45CD-9360-500F3531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A0E-0DF5-4669-B387-581517CA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90F6-7D06-4189-BD3D-E725882A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8839-3B7C-4315-BEF1-5F168FCA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DF42-A189-46A5-9D1E-92518A7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D2AF-C0C8-41D0-ACBC-AC93C661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B953-3777-4602-9A0D-61427B10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68B-BA80-48E7-A584-B56D3D52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86DF-1629-4755-BFDE-7B6D9E53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B2AD-589D-4716-9D45-C8A3BC9A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C3D-ED6E-4CBF-A8D9-EA03A2D3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7996-2E6F-493A-B6FD-354F3C50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2158-B69A-4AEC-A927-53D6B3D2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2E76-289B-44B6-9F13-50BD44EA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E637-767B-46BD-8B45-D19E026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C07F-5FF8-454B-9765-646E0B55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7B81-E9DD-4F98-A6A1-9EF5F324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D4FA-D6BC-453F-A3AF-46D6DA6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900-6080-4C95-AAE9-4B4E2B25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92F12-6B3F-41BD-8621-D73288F4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9D27-08AC-4B9B-B430-186732F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301A-9124-419F-8F04-4D54509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3A75-BF85-4284-A40F-28BD9AE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4A51-B639-4DA3-A052-48E19194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3662-5C07-424B-B90C-C3570B86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2972-CF4F-4ADD-85BF-D112FFC5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975D-33E0-4BA8-BDF7-EE30705F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75B7-3128-408F-ADB9-3FB065D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17F3-5EE0-41BA-B316-8EF593BD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FD9-5D6E-4AFE-9E64-188A8D1F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84C0-E246-4844-B742-C2DF2AD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14AB8-BF88-4E25-BAE0-76138CA0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EFC3-2CDE-49FF-A770-3DF3653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2B61-8FA1-4B77-8734-6D819873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C3E6-5331-4709-AB3C-AE4865DA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8F85-9E4D-4F61-A931-8172F678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7294E-2A35-421E-8193-3F9888D9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C9EA-32BD-4EF0-9AB2-D748F8F8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8E30-4A64-4911-81EB-305B7ACB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AAF-87DE-4CE8-A993-617E14EE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F3B-7B3D-4B22-8544-006D2D36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D20-77D6-44B7-B5E2-6B8D0477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7C4-B354-4ED1-9516-D820FB30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009-0D06-4D01-873D-9CDB80A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9F8D-3934-4EB8-92C6-F3339D5FA6C7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823E-9103-4E1D-85C5-49CFAE6078B8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9215-A31D-4F96-BA2E-063F32A72275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9EB0-B99D-453A-87CF-6F62FF478781}" type="slidenum">
              <a:rPr b="0" lang="ru-RU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6" descr=""/>
          <p:cNvPicPr/>
          <p:nvPr/>
        </p:nvPicPr>
        <p:blipFill>
          <a:blip r:embed="rId1"/>
          <a:stretch/>
        </p:blipFill>
        <p:spPr>
          <a:xfrm>
            <a:off x="-54000" y="-63360"/>
            <a:ext cx="12246120" cy="7014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79400" y="4022640"/>
            <a:ext cx="9131400" cy="18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31830"/>
                </a:solidFill>
                <a:latin typeface="Arial"/>
                <a:ea typeface="Arial"/>
              </a:rPr>
              <a:t>Администрация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31830"/>
                </a:solidFill>
                <a:latin typeface="Arial"/>
                <a:ea typeface="Arial"/>
              </a:rPr>
              <a:t>Новоселовского сельского поселения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31830"/>
                </a:solidFill>
                <a:latin typeface="Arial"/>
                <a:ea typeface="Arial"/>
              </a:rPr>
              <a:t>Симферопольского района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31830"/>
                </a:solidFill>
                <a:latin typeface="Arial"/>
                <a:ea typeface="Arial"/>
              </a:rPr>
              <a:t>Республики Крым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3" name="Рисунок 3" descr=""/>
          <p:cNvPicPr/>
          <p:nvPr/>
        </p:nvPicPr>
        <p:blipFill>
          <a:blip r:embed="rId2"/>
          <a:stretch/>
        </p:blipFill>
        <p:spPr>
          <a:xfrm>
            <a:off x="-54000" y="-63360"/>
            <a:ext cx="6777000" cy="3751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0000" y="649440"/>
            <a:ext cx="946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БЪЁМ БЮДЖЕТА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 НОВОСЕЛОВСКОГО СЕЛЬСКОГО ПОСЕЛЕНИЯ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СИМФЕРОПОЛЬСКОГО РАЙОНА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РЕСПУБЛИКИ КРЫМ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 2021 ГОД, ПЛАНОВЫЙ ПЕРИОД 2022 И 2023 ГГ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00320" y="2495160"/>
            <a:ext cx="92073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ъем налоговых и неналоговых доходов местного бюджета н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02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од прогнозируется в сумме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 268 372,0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убле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aphicFrame>
        <p:nvGraphicFramePr>
          <p:cNvPr id="235" name="Диаграмма 6"/>
          <p:cNvGraphicFramePr/>
          <p:nvPr/>
        </p:nvGraphicFramePr>
        <p:xfrm>
          <a:off x="595440" y="3116160"/>
          <a:ext cx="10526760" cy="32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3116160"/>
                    <a:ext cx="105267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Box 5"/>
          <p:cNvSpPr/>
          <p:nvPr/>
        </p:nvSpPr>
        <p:spPr>
          <a:xfrm>
            <a:off x="2343240" y="6399360"/>
            <a:ext cx="66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возмездные поступл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1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942 197,60 рублей.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0000" y="649440"/>
            <a:ext cx="946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БЪЁМ БЮДЖЕТА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 НОВОСЕЛОВСКОГО СЕЛЬСКОГО ПОСЕЛЕНИЯ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СИМФЕРОПОЛЬСКОГО РАЙОНА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РЕСПУБЛИКИ КРЫМ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 2021 ГОД, ПЛАНОВЫЙ ПЕРИОД 2022 И 2023 ГГ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781280" y="2495160"/>
            <a:ext cx="9205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ъем налоговых и неналоговых доходов местного бюджета н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02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д прогнозируется в сумме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 382 422,0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убле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aphicFrame>
        <p:nvGraphicFramePr>
          <p:cNvPr id="240" name="Диаграмма 6"/>
          <p:cNvGraphicFramePr/>
          <p:nvPr/>
        </p:nvGraphicFramePr>
        <p:xfrm>
          <a:off x="641520" y="3171960"/>
          <a:ext cx="10526400" cy="32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3171960"/>
                    <a:ext cx="1052640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Box 5"/>
          <p:cNvSpPr/>
          <p:nvPr/>
        </p:nvSpPr>
        <p:spPr>
          <a:xfrm>
            <a:off x="2343240" y="6399360"/>
            <a:ext cx="66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возмездные поступл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2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051 171,21 рублей.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3" descr=""/>
          <p:cNvPicPr/>
          <p:nvPr/>
        </p:nvPicPr>
        <p:blipFill>
          <a:blip r:embed="rId1"/>
          <a:stretch/>
        </p:blipFill>
        <p:spPr>
          <a:xfrm>
            <a:off x="8840880" y="5083200"/>
            <a:ext cx="3351240" cy="1762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46040" y="236520"/>
            <a:ext cx="9466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МЕЖБЮДЖЕТНЫЕ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ТРАНСФЕРТЫ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665440" y="1843200"/>
            <a:ext cx="9277200" cy="48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42349"/>
                </a:solidFill>
                <a:latin typeface="Arial"/>
                <a:ea typeface="Arial"/>
              </a:rPr>
              <a:t>Межбюджетные трансферты из бюджетов бюджетной системы Российской Федерации, получаемые бюджетом Новоселовского сельского поселения, предоставляются в форме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- дотаций на выравнивание бюджетной обеспеченности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поселений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- субвенций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 осуществление первичного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оинского учета на территориях, где отсутствуют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оенные комиссариаты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6" name="Рисунок 6" descr=""/>
          <p:cNvPicPr/>
          <p:nvPr/>
        </p:nvPicPr>
        <p:blipFill>
          <a:blip r:embed="rId2"/>
          <a:stretch/>
        </p:blipFill>
        <p:spPr>
          <a:xfrm>
            <a:off x="17640" y="98280"/>
            <a:ext cx="272556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7080" y="0"/>
            <a:ext cx="9766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ФУНКЦИОНАЛЬНОЕ СТРОЕНИЕ РАСХОДОВ БЮДЖЕТА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rial"/>
              </a:rPr>
              <a:t> НОВОСЕЛОВСКОГО СЕЛЬСКОГО ПОСЕЛЕНИЯ СИМФЕРОПОЛЬСКОГО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rial"/>
              </a:rPr>
              <a:t>РАЙОНА РЕСПУБЛИКИ КРЫ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 2021 ГОД, ПЛАНОВЫЙ ПЕРИОД 2022 И 2023 ГГ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76440" y="2145960"/>
            <a:ext cx="920592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202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од запланированы расходы в сумм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 025 245,54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ублей</a:t>
            </a:r>
            <a:r>
              <a:rPr b="0" lang="ru-RU" sz="2000" spc="-1" strike="noStrike">
                <a:solidFill>
                  <a:srgbClr val="0f496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aphicFrame>
        <p:nvGraphicFramePr>
          <p:cNvPr id="249" name="Диаграмма 6"/>
          <p:cNvGraphicFramePr/>
          <p:nvPr/>
        </p:nvGraphicFramePr>
        <p:xfrm>
          <a:off x="1525680" y="2854440"/>
          <a:ext cx="9375840" cy="375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854440"/>
                    <a:ext cx="93758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87600" y="90360"/>
            <a:ext cx="9766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ФУНКЦИОНАЛЬНОЕ СТРОЕНИЕ РАСХОДОВ БЮДЖЕТА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rial"/>
              </a:rPr>
              <a:t>НОВОСЕЛОВСКОГО СЕЛЬСКОГО ПОСЕЛЕНИЯ СИМФЕРОПОЛЬСКОГО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rial"/>
              </a:rPr>
              <a:t>РАЙОНА РЕСПУБЛИКИ КРЫ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 2021 ГОД, ПЛАНОВЫЙ ПЕРИОД 2022 И 2023 ГГ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693800" y="2145960"/>
            <a:ext cx="920592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202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од запланированы расходы в сумм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 145 333,48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ублей</a:t>
            </a:r>
            <a:r>
              <a:rPr b="0" lang="ru-RU" sz="2000" spc="-1" strike="noStrike">
                <a:solidFill>
                  <a:srgbClr val="0f496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aphicFrame>
        <p:nvGraphicFramePr>
          <p:cNvPr id="253" name="Диаграмма 6"/>
          <p:cNvGraphicFramePr/>
          <p:nvPr/>
        </p:nvGraphicFramePr>
        <p:xfrm>
          <a:off x="1320840" y="2800440"/>
          <a:ext cx="9374040" cy="375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2800440"/>
                    <a:ext cx="93740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87600" y="90360"/>
            <a:ext cx="9766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ФУНКЦИОНАЛЬНОЕ СТРОЕНИЕ РАСХОДОВ БЮДЖЕТА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rial"/>
              </a:rPr>
              <a:t>НОВОСЕЛОВСКОГО СЕЛЬСКОГО ПОСЕЛЕНИЯ СИМФЕРОПОЛЬСКОГО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Arial"/>
              </a:rPr>
              <a:t>РАЙОНА РЕСПУБЛИКИ КРЫ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 2021 ГОД, ПЛАНОВЫЙ ПЕРИОД 2022 И 2023 ГГ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41480" y="1923840"/>
            <a:ext cx="920592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202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од запланированы расходы в сумм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 293 991,16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ублей</a:t>
            </a:r>
            <a:r>
              <a:rPr b="0" lang="ru-RU" sz="2000" spc="-1" strike="noStrike">
                <a:solidFill>
                  <a:srgbClr val="0f496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aphicFrame>
        <p:nvGraphicFramePr>
          <p:cNvPr id="257" name="Диаграмма 6"/>
          <p:cNvGraphicFramePr/>
          <p:nvPr/>
        </p:nvGraphicFramePr>
        <p:xfrm>
          <a:off x="1773360" y="2717640"/>
          <a:ext cx="9374040" cy="375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3360" y="2717640"/>
                    <a:ext cx="9374040" cy="37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41000" y="270000"/>
            <a:ext cx="9466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76320" y="1595160"/>
            <a:ext cx="10198080" cy="44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ю о бюджете можно получить на официальном сайте Новоселовского сельского поселен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имферопольского район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Республики Крым по адресу: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f496f"/>
                </a:solidFill>
                <a:latin typeface="Century Gothic"/>
              </a:rPr>
              <a:t>http://</a:t>
            </a:r>
            <a:r>
              <a:rPr b="1" lang="ru-RU" sz="3600" spc="-1" strike="noStrike">
                <a:solidFill>
                  <a:srgbClr val="0f496f"/>
                </a:solidFill>
                <a:latin typeface="Century Gothic"/>
              </a:rPr>
              <a:t>новоселовка-адм.рф/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87120" y="365040"/>
            <a:ext cx="9466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ПОНЯТИЕ БЮДЖЕТ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147760" y="1825200"/>
            <a:ext cx="9205920" cy="27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юдж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это форма образования и расходования фонда денежных средств в расчете на финансовый год, предназначенных для финансового обеспечения задач и функций, отнесенных к предметам ведения местного самоуправления, путём исполнения расходных обязательств муниципального образования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ставные части бюдже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доходы и расходы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6" name="Рисунок 4" descr=""/>
          <p:cNvPicPr/>
          <p:nvPr/>
        </p:nvPicPr>
        <p:blipFill>
          <a:blip r:embed="rId1"/>
          <a:stretch/>
        </p:blipFill>
        <p:spPr>
          <a:xfrm>
            <a:off x="8188200" y="4162320"/>
            <a:ext cx="3838680" cy="25225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8" descr=""/>
          <p:cNvPicPr/>
          <p:nvPr/>
        </p:nvPicPr>
        <p:blipFill>
          <a:blip r:embed="rId2"/>
          <a:stretch/>
        </p:blipFill>
        <p:spPr>
          <a:xfrm>
            <a:off x="1025640" y="1555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"/>
          <p:cNvPicPr/>
          <p:nvPr/>
        </p:nvPicPr>
        <p:blipFill>
          <a:blip r:embed="rId3"/>
          <a:stretch/>
        </p:blipFill>
        <p:spPr>
          <a:xfrm>
            <a:off x="830160" y="434988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7760" y="425520"/>
            <a:ext cx="946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ДОХОДЫ                    РАСХОД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95160" y="1585800"/>
            <a:ext cx="4483080" cy="32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0a4b3e"/>
                </a:solidFill>
                <a:uFillTx/>
                <a:latin typeface="Arial"/>
                <a:ea typeface="Arial"/>
              </a:rPr>
              <a:t>Доходная часть бюджет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ормируется за счет налогов, которые выплачивают физические и юридические лица, а также поступлений МБТ (межбюджетных трансфертов)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531120" y="1585800"/>
            <a:ext cx="526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асходная часть бюджет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о выплачиваемые из бюджета денежные средства, за исключением средств, являющихся в соответствии с Бюджетным Кодексом Российской Федерации источниками финансирования дефицита бюджета.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02" name="Рисунок 6" descr="image002.png"/>
          <p:cNvPicPr/>
          <p:nvPr/>
        </p:nvPicPr>
        <p:blipFill>
          <a:blip r:embed="rId1"/>
          <a:stretch/>
        </p:blipFill>
        <p:spPr>
          <a:xfrm>
            <a:off x="3521160" y="4734000"/>
            <a:ext cx="5027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4240" y="257040"/>
            <a:ext cx="9464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ИДЕАЛЬНЫЙ БЮДЖЕТ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74600" y="1355760"/>
            <a:ext cx="9204480" cy="27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ДОХОДЫ = РАСХОДЫ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это равенство нарушается,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официт и дефицит бюджета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5" name="Прямая соединительная линия 5"/>
          <p:cNvSpPr/>
          <p:nvPr/>
        </p:nvSpPr>
        <p:spPr>
          <a:xfrm flipV="1">
            <a:off x="2786040" y="4276440"/>
            <a:ext cx="5413320" cy="1160280"/>
          </a:xfrm>
          <a:prstGeom prst="line">
            <a:avLst/>
          </a:prstGeom>
          <a:ln cap="rnd"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Стрелка вниз 6"/>
          <p:cNvSpPr/>
          <p:nvPr/>
        </p:nvSpPr>
        <p:spPr>
          <a:xfrm>
            <a:off x="3338640" y="3427560"/>
            <a:ext cx="1450800" cy="131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Стрелка вниз 7"/>
          <p:cNvSpPr/>
          <p:nvPr/>
        </p:nvSpPr>
        <p:spPr>
          <a:xfrm flipV="1">
            <a:off x="6705720" y="4745160"/>
            <a:ext cx="1450800" cy="131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457080" y="410688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АСХОДЫ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6864480" y="50180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ДОХОДЫ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5674320" y="3427560"/>
            <a:ext cx="264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Franklin Gothic Book"/>
              </a:rPr>
              <a:t>Дефицит</a:t>
            </a:r>
            <a:r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 – превышение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расходов бюджета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над его доходами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2613600" y="5748480"/>
            <a:ext cx="278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Franklin Gothic Book"/>
              </a:rPr>
              <a:t>Профицит</a:t>
            </a:r>
            <a:r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 – превышение 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доходов бюджета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над его расходами</a:t>
            </a:r>
            <a:endParaRPr b="0" lang="en-US" sz="1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12" name="Рисунок 13" descr=""/>
          <p:cNvPicPr/>
          <p:nvPr/>
        </p:nvPicPr>
        <p:blipFill>
          <a:blip r:embed="rId1"/>
          <a:stretch/>
        </p:blipFill>
        <p:spPr>
          <a:xfrm>
            <a:off x="9713880" y="4276800"/>
            <a:ext cx="2313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87120" y="365040"/>
            <a:ext cx="9466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СТАДИИ БЮДЖЕТНОГО ПРОЦЕСС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4520" y="1541520"/>
            <a:ext cx="84420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ставление проекта бюджет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ссмотрение проекта бюджет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тверждение бюджет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полнение бюджет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ссмотрение и утверждение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чета об исполнении бюджет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5896080" y="2602080"/>
            <a:ext cx="60498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63520" y="175680"/>
            <a:ext cx="946656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БЮДЖЕТ И ГРАЖДАНИН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40000" y="1690200"/>
            <a:ext cx="3757680" cy="27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ражданин как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налогоплательщик</a:t>
            </a:r>
            <a:r>
              <a:rPr b="1" lang="ru-RU" sz="2400" spc="-1" strike="noStrike">
                <a:solidFill>
                  <a:srgbClr val="0f496f"/>
                </a:solidFill>
                <a:latin typeface="Arial"/>
                <a:ea typeface="Arial"/>
              </a:rPr>
              <a:t>                   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могает формировать доход бюджета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7286760" y="1612800"/>
            <a:ext cx="3716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ин как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лучатель социальных гарант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ает социальные гарантии – расходную часть бюджета (образование, культура, социальные льготы и другие направления социальной гарантии населению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Стрелка вниз 5"/>
          <p:cNvSpPr/>
          <p:nvPr/>
        </p:nvSpPr>
        <p:spPr>
          <a:xfrm>
            <a:off x="3382920" y="2687760"/>
            <a:ext cx="924120" cy="33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Стрелка вниз 6"/>
          <p:cNvSpPr/>
          <p:nvPr/>
        </p:nvSpPr>
        <p:spPr>
          <a:xfrm>
            <a:off x="8547120" y="2776680"/>
            <a:ext cx="92556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52f61"/>
          </a:solidFill>
          <a:ln cap="rnd" w="1584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21" name="Рисунок 7" descr=""/>
          <p:cNvPicPr/>
          <p:nvPr/>
        </p:nvPicPr>
        <p:blipFill>
          <a:blip r:embed="rId1"/>
          <a:stretch/>
        </p:blipFill>
        <p:spPr>
          <a:xfrm>
            <a:off x="1693800" y="4059360"/>
            <a:ext cx="4599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58880" y="809640"/>
            <a:ext cx="946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УБЛИЧНЫЕ СЛУШАНИЯ ПО ПРОЕКТУ БЮДЖЕТ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49240" y="3935520"/>
            <a:ext cx="1061424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Публичные слушания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это форма участия населения в осуществлении местного самоуправления, это средства развития местной демократии, способ привлечения граждан к осуществлению вопросов, находящихся в компетенции муниципальной власти.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публичных слушаний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преследует цели обеспечения гласности при подготовке и принятии доходов, информирования населения о предполагаемых решениях ОМС. Кроме того, публичные слушания позволяют выявить общественное мнение по проектам муниципальных правовых актов, служат цели выработки предложений и рекомендаций граждан.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162000" y="147600"/>
            <a:ext cx="3332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7560" y="622440"/>
            <a:ext cx="10014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СНОВНЫЕ ХАРАКТЕРИСТИКИ БЮДЖЕТА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НОВОСЕЛОВСКОГО СЕЛЬСКОГО ПОСЕЛЕНИЯ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СИМФЕРОПОЛЬСКОГО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РАЙОНА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РЕСПУБЛИКИ КРЫМ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 2021 ГОД, ПЛАНОВЫЙ ПЕРИОД 2022 И 2023 ГГ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26" name="Объект 14"/>
          <p:cNvGraphicFramePr/>
          <p:nvPr/>
        </p:nvGraphicFramePr>
        <p:xfrm>
          <a:off x="700200" y="2281320"/>
          <a:ext cx="1066140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Объект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2281320"/>
                    <a:ext cx="106614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0000" y="649440"/>
            <a:ext cx="946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БЪЁМ БЮДЖЕТА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 НОВОСЕЛОВСКОГО СЕЛЬСКОГО ПОСЕЛЕНИЯ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СИМФЕРОПОЛЬСКОГО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РАЙОНА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РЕСПУБЛИКИ КРЫМ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А 2021 ГОД, ПЛАНОВЫЙ ПЕРИОД 2022 И 2023 ГГ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32080" y="2511000"/>
            <a:ext cx="9205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бъем налоговых и неналоговых доходов местного бюджета н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02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од прогнозируется в сумме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 174 315,0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ублей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graphicFrame>
        <p:nvGraphicFramePr>
          <p:cNvPr id="230" name="Диаграмма 6"/>
          <p:cNvGraphicFramePr/>
          <p:nvPr/>
        </p:nvGraphicFramePr>
        <p:xfrm>
          <a:off x="641520" y="3168720"/>
          <a:ext cx="10526400" cy="32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3168720"/>
                    <a:ext cx="105264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Box 5"/>
          <p:cNvSpPr/>
          <p:nvPr/>
        </p:nvSpPr>
        <p:spPr>
          <a:xfrm>
            <a:off x="2343240" y="6399360"/>
            <a:ext cx="66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возмездные поступл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1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850 930,54 рубля.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06:15:35Z</dcterms:created>
  <dc:creator>RePack by Diakov</dc:creator>
  <dc:description/>
  <dc:language>en-US</dc:language>
  <cp:lastModifiedBy>Надежда</cp:lastModifiedBy>
  <dcterms:modified xsi:type="dcterms:W3CDTF">2021-01-28T18:33:44Z</dcterms:modified>
  <cp:revision>214</cp:revision>
  <dc:subject/>
  <dc:title>Презентация PowerPoint</dc:title>
</cp:coreProperties>
</file>